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93C-F2ED-48A3-988C-2177584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030-9CE6-4221-98FB-61CD119D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CDD-B7AA-4207-B840-299A457A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687-2908-4C04-9732-118B5B0D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C4EB-C08A-4467-8954-05D1F186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A1C-1137-4C5D-8CBE-EB40D407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CB48-5F72-467C-BA91-D273BA37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2BB1-C359-4098-B004-0D66BC5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F311-583A-4EC7-8F47-29A70ADF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814F-3F7A-4331-A6DF-B461DCC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A8CF-F845-46C5-9CBD-B5876BD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CDD-24E6-4B61-8609-B1CC4FAD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577B-E5DF-4BCE-B7BC-5CC98FE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DBC9-8E5C-445C-8E7C-B1AA58C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7A2-730A-4C06-9B1A-B298A86D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D583-8CBD-498F-A106-2224DE7B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6765-56D0-4BB0-AD08-E07C85A9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8611-C42C-423E-98C0-EDD33D72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EB14-8F33-4B52-9815-EB03F32A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F451-57AC-4012-B4D8-36A90996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3CF6-7D28-44E2-A980-004B1DE1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1E2C-F9B1-4534-85D7-005F837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83F-1351-4C85-9E35-865F5B3A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E82B-6607-4DB8-B269-BA7DA44E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5AD7-B00B-4A5E-AB53-D8B507E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C289-5386-42C4-B07F-B33F974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62B1-859C-4121-B3F3-BC398AF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8D81-D1F2-4F76-89A8-0BE0132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DA0B-5DB1-46EF-8FBA-ADE2F9A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751E-01F9-417A-9030-EC7A0B2D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441-F329-4188-9859-5E1AF1F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234-DE47-4F61-B485-AB6905D0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95F-CD8D-4D3C-BFA5-BBF6FB29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646-2CC6-42DC-8FCA-7D36E94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F73-2658-4FF7-8158-2A2F10DB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7C7-EA29-46E4-A027-103C0C91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BBBA-D357-479F-B47C-B4FE5FF4BAC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426-3C22-41A0-A7E3-DF5C8803B19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5560" indent="-24588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836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BBBD-11F3-4F99-B657-8658E179EDB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156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804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000" y="24919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Введение ФГОС дошкольного образования: эффекты и риск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огвинова И.М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.10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13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2" name="Picture 10" descr="Graphic1"/>
          <p:cNvPicPr/>
          <p:nvPr/>
        </p:nvPicPr>
        <p:blipFill>
          <a:blip r:embed="rId1"/>
          <a:stretch/>
        </p:blipFill>
        <p:spPr>
          <a:xfrm>
            <a:off x="2513160" y="652320"/>
            <a:ext cx="65167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 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280" y="1341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араллельность процессов   модернизации образ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«Сопромат» массового сознания участников 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413000"/>
            <a:ext cx="82915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5272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9640" indent="-25272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Сохранение стереотипов профессиональной деятельности, применение традиционных неэффективных технологий обучен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9640" indent="-25272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дмена нового содержания прежним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9640" indent="-25272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Вульгаризация идей стандар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9640" indent="-2527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9640" indent="-25272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 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1988640"/>
            <a:ext cx="7848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Формальное участие родителей в образовательном процесс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Опережающий контрол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Отрыв начальной школы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1187280" y="-31608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684360" y="2492280"/>
            <a:ext cx="741672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нститут стратегических исследований в 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ww.isiorao.r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ac66bb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Логвинова И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(499)245-35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logvinova_im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Логвинова\Мои документы\Мои рисунки\op-obl-h220.jpg"/>
          <p:cNvPicPr/>
          <p:nvPr/>
        </p:nvPicPr>
        <p:blipFill>
          <a:blip r:embed="rId1"/>
          <a:stretch/>
        </p:blipFill>
        <p:spPr>
          <a:xfrm>
            <a:off x="5202360" y="1844640"/>
            <a:ext cx="3941640" cy="4845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Логвинова\Мои документы\Мои рисунки\18cac6b3ec552064b30b03cfcec8604e.jpg"/>
          <p:cNvPicPr/>
          <p:nvPr/>
        </p:nvPicPr>
        <p:blipFill>
          <a:blip r:embed="rId2"/>
          <a:stretch/>
        </p:blipFill>
        <p:spPr>
          <a:xfrm>
            <a:off x="0" y="2708280"/>
            <a:ext cx="5127480" cy="38718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0" y="3166920"/>
            <a:ext cx="657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-964080"/>
            <a:ext cx="8507520" cy="31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rebuchet MS"/>
              </a:rPr>
              <a:t>А.Г.Асмолов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907560"/>
            <a:ext cx="86868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Оптика просвещения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социокультурные перспектив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156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804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Содержание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000" y="24919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1. Попытки реформирования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образован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2. Главные событ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3. Эффекты и риски введ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ФГОС Д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571680"/>
            <a:ext cx="819144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rebuchet MS"/>
              </a:rPr>
              <a:t>Попытки  реформирования  образова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8920" y="2420640"/>
            <a:ext cx="82645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преобладание интересов профессионального педагогического сообщества </a:t>
            </a: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(«реформирование образования изнутри»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360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«реформирование от экономики»           ( </a:t>
            </a: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экономико-управленческий детерминизм при разработке программ развития образования</a:t>
            </a: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7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7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b83d68"/>
              </a:solidFill>
              <a:latin typeface="Georgia"/>
            </a:endParaRPr>
          </a:p>
          <a:p>
            <a:pPr marL="36360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Попытки  реформирования  образования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7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b83d68"/>
              </a:solidFill>
              <a:latin typeface="Georgia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отсутствие анализа политических, социальных и психологических рисков при проведении реформ образования, касающихся ожиданий и мотивации различных социальных слоев населения нашей страны по отношению к образован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360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6560" y="142560"/>
            <a:ext cx="813744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Главные события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 общем образовании  </a:t>
            </a:r>
            <a:endParaRPr b="0" lang="en-US" sz="36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61840" y="1844640"/>
            <a:ext cx="828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Введение уровня дошкольного     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Создание новых образовательных стандарт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Всеобщая интернетизация 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08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Главные события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 общем образовании  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000" y="2204640"/>
            <a:ext cx="8459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Расширение финансовой самостоятельности образовательных организац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Всеобщее введение ЕГЭ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Введение новой системы оплаты труда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03e06"/>
                </a:solidFill>
                <a:latin typeface="Times New Roman"/>
              </a:rPr>
              <a:t>Ожидаемые   эффекты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120de1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120de1"/>
                </a:solidFill>
                <a:latin typeface="Times New Roman"/>
              </a:rPr>
              <a:t>.   Консолидация экспертно-профессионального сообщества      (государственные органы управления,     учреждения дошкольного и общего образования, повышения квалификации и оценки качества образования)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120de1"/>
                </a:solidFill>
                <a:latin typeface="Times New Roman"/>
              </a:rPr>
              <a:t>2.   Профессиональное развит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120de1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120de1"/>
                </a:solidFill>
                <a:latin typeface="Times New Roman"/>
              </a:rPr>
              <a:t>руководителей и педагог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03e06"/>
                </a:solidFill>
                <a:latin typeface="Times New Roman"/>
              </a:rPr>
              <a:t>Ожидаемые  эффекты</a:t>
            </a:r>
            <a:endParaRPr b="0" lang="en-US" sz="4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000" y="1989000"/>
            <a:ext cx="821844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3. Интеграция компетентностей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организаторов и участник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введения ФГОС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4. Распространение идей и смысл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120de1"/>
                </a:solidFill>
                <a:latin typeface="Times New Roman"/>
              </a:rPr>
              <a:t>ФГОС Д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32:52Z</dcterms:created>
  <dc:creator>USER</dc:creator>
  <dc:description/>
  <dc:language>en-US</dc:language>
  <cp:lastModifiedBy>Your User Name</cp:lastModifiedBy>
  <dcterms:modified xsi:type="dcterms:W3CDTF">2013-10-06T16:22:37Z</dcterms:modified>
  <cp:revision>179</cp:revision>
  <dc:subject/>
  <dc:title>Основная образовательная программа образовательного учреждения</dc:title>
</cp:coreProperties>
</file>